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633-4033-4FC2-9140-EEA62A99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45E-0461-4F56-9A9B-24D2ED67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BB9-AC88-458F-A762-1777CBD5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DC1-E800-468F-8265-E51D0D10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B99-48F3-4E0A-B6DB-CD36063C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70B-82E1-4D91-A868-85042567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7FF-7100-4A10-B532-742DA213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27E-0ED0-46C2-84D8-CA7AB816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7C7-53CD-462B-98CF-B396C5A5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614B-20B2-4810-963A-CED85158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FD3-E205-438B-B416-07EF5286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573-3D13-42A2-B311-25E52A48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B7EC-D92A-48C0-917D-D02F750B4F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Languages_-_a_revolution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int.org/features/2014/06/01/keynote-minority-languages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63760" y="1052640"/>
            <a:ext cx="548496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Quiz about minority language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17604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41200" y="260280"/>
            <a:ext cx="2975040" cy="525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63760" y="5370480"/>
            <a:ext cx="59007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 you think?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981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country is Galicia part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France / Spain /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. How many people in the world speak Galici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2.5 million / 2,500 / 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. How many years have Aborigines lived in Australia? 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 500,000 / 50,000 / 5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. What % of US drugs come from native remedies?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80% / 50% /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5. How many years ago did humans first start using language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1,500,000 / 150,000 / 15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74560" y="764640"/>
            <a:ext cx="8569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. About how many languages are there now in the world?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7000 / 700 / 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. How many languages do linguists think we could have in 100 years?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600 / 60 /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8. When did French become the standard language of France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14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/ 16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/ 18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9. How many people speak Sami (from Scandinavia / Russia)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200,000 / 20,000 / 2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0. How many official local languages are there in Zambia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700 / 70 /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read this to find the answer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Languages_-_a_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762200" y="2781360"/>
            <a:ext cx="56196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Key: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5 mill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5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5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54900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. 7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7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8. 18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9. 2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0. 7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Now read the original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features/2014/06/01/keynote-minority-langu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33320" y="5013360"/>
            <a:ext cx="2697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8T09:44:50Z</dcterms:created>
  <dc:creator>Linda Ruas</dc:creator>
  <dc:description/>
  <dc:language>en-US</dc:language>
  <cp:lastModifiedBy>Linda Ruas</cp:lastModifiedBy>
  <dcterms:modified xsi:type="dcterms:W3CDTF">2014-06-08T11:47:25Z</dcterms:modified>
  <cp:revision>6</cp:revision>
  <dc:subject/>
  <dc:title>Quiz about minority languages</dc:title>
</cp:coreProperties>
</file>